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F07-CAD5-4D16-8CE1-BFF71D5D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D30-784A-4BF7-BC93-85D4776D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C19-F997-45A7-8917-8CAE06D8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65B-F08E-4730-85B2-E931B65A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DFE-8B57-4A9C-B150-976F17CA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865-E8EC-4E76-9807-E7D68F1F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2C6-C7F6-4758-A89B-44248C3E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9DC-3515-432C-B2FF-994C3D71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1CC-A3FE-45A2-B8CA-7082C5A2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2EC-1687-49EE-BC2F-E211E559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66A-B358-4487-A95D-D7FA938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15F-9604-4B7D-88D6-8A5C0E03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39EA-3384-4106-ADDF-39DB67D8F0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769C-5560-489C-93CD-CBD57E3D4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 pt muon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 7.0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alia Panikashv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visor :Shlomit Ta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echnion, Israel Institute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81952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) was simulated with initial layout atlsim70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6)X background data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BA70-B2F4-41DD-8E24-AF1D87949C4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2069B-1097-4BC4-8093-1808C06294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26bd7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.5 % of muons were re-reconstructed (by using only MDT and CSC digits information) with purity 31.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 % of muons were re-reconstructed (by using MDT, CSC, TGC, RPC digits information) with purity 42.2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DEF-E2DD-4B85-A126-ADAC016093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2FEC0-E92B-4121-B227-EE6AD66C42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ff"/>
                </a:solidFill>
                <a:latin typeface="Times New Roman"/>
              </a:rPr>
              <a:t>Muon week pl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s of ID- MOORE digits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variant mass distribution of signal +backg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89A-45D2-4C73-8145-66FDE87575E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6FCCD-B394-4AE0-9EF1-3F00DEA959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ore reconstr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057400" y="1600200"/>
          <a:ext cx="510552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00200"/>
                    <a:ext cx="510552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33520" y="106668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fficiency of tracks reconstruction in the Muon System vs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3352680"/>
            <a:ext cx="46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4360" y="571500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133720" y="3962520"/>
          <a:ext cx="5029200" cy="22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962520"/>
                    <a:ext cx="50292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A2E-99E9-40EB-A514-A09A82E34D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B0A0F-6FEA-4311-A7EE-E7A5B4A888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ID stand al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33720" y="1600200"/>
          <a:ext cx="4952880" cy="21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95288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09480" y="10666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fficiency o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uid Stand Alone effici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86600" y="3276720"/>
            <a:ext cx="46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556272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33720" y="3886200"/>
          <a:ext cx="5029200" cy="22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886200"/>
                    <a:ext cx="50292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755-6085-46F2-A3BA-6EB6D707A9E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FC3EE-4E5F-4012-A7AC-7652ADE06A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idC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62320" y="1523880"/>
          <a:ext cx="480060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523880"/>
                    <a:ext cx="480060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09480" y="99072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fficiency o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uidComb effici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77240" y="3062160"/>
            <a:ext cx="466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29440" y="5486400"/>
            <a:ext cx="4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0" y="3770280"/>
          <a:ext cx="495288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770280"/>
                    <a:ext cx="495288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9689-ACC9-4B84-863E-037105B0DAB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49699-FD57-4556-8C82-BF0EF646BD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7920" y="6858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muon (J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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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onstruction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1981080"/>
          <a:ext cx="73152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3152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44% of the events only one muon is reconstructed by MUID!!!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y purpose is to find the second muon by using the association between ID tracks and Moore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63D-1900-44B1-8DB2-7C3C21A0635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A0F5C-9930-48C9-89A9-9E567ACFE7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822960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28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762120"/>
            <a:ext cx="16002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685800"/>
            <a:ext cx="22096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438280"/>
            <a:ext cx="822960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514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ner detector 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2971800"/>
            <a:ext cx="16002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121932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600200"/>
            <a:ext cx="1828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id – ID track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2666880"/>
            <a:ext cx="472428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non-associated ID tr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4419720"/>
            <a:ext cx="5639040" cy="213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4495680"/>
            <a:ext cx="243828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riant 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/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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riant mass window : 2 – 4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029200" y="4572000"/>
          <a:ext cx="228600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572000"/>
                    <a:ext cx="228600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819520" y="34290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0E9-613C-435E-B7FF-339E61671BFA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E5E6F-8DD1-40BF-BD85-B512180FCE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914400"/>
            <a:ext cx="822960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990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ner detector 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447920"/>
            <a:ext cx="16002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1447920"/>
            <a:ext cx="47242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 track cand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533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4191120"/>
            <a:ext cx="525780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42670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590920"/>
            <a:ext cx="822960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666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124080"/>
            <a:ext cx="16002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3124080"/>
            <a:ext cx="304812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33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3581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19051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410080"/>
            <a:ext cx="822960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486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648400"/>
            <a:ext cx="16002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638680"/>
            <a:ext cx="22096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0385-1F05-4BEA-B9F8-FFB8CAE9208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9115B-D0BB-416D-A741-CB1DBC41AA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26bd7"/>
                </a:solidFill>
                <a:latin typeface="Times New Roman"/>
              </a:rPr>
              <a:t>20000 events pp</a:t>
            </a:r>
            <a:r>
              <a:rPr b="1" i="1" lang="en-US" sz="2400" spc="-1" strike="noStrike">
                <a:solidFill>
                  <a:srgbClr val="926bd7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926bd7"/>
                </a:solidFill>
                <a:latin typeface="Times New Roman"/>
              </a:rPr>
              <a:t>J/</a:t>
            </a:r>
            <a:r>
              <a:rPr b="1" i="1" lang="en-US" sz="2400" spc="-1" strike="noStrike">
                <a:solidFill>
                  <a:srgbClr val="926bd7"/>
                </a:solidFill>
                <a:latin typeface="Symbol"/>
                <a:ea typeface="Symbol"/>
              </a:rPr>
              <a:t></a:t>
            </a:r>
            <a:r>
              <a:rPr b="1" i="1" lang="en-US" sz="2400" spc="-1" strike="noStrike">
                <a:solidFill>
                  <a:srgbClr val="926bd7"/>
                </a:solidFill>
                <a:latin typeface="Times New Roman"/>
              </a:rPr>
              <a:t>(mu(6) mu(3)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ut_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Invariant mass window 2-4G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ut_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3GeV&lt;pt (ID candidates)&lt;10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66ff"/>
                </a:solidFill>
                <a:latin typeface="Times New Roman"/>
              </a:rPr>
              <a:t>89% ID_tracks (ID_candidates) after CUT_1 and CUT_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ut_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candidate-MDT dig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nner station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candidate-CSC digits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D candidates that were associated with MDT digits or CSC digits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D candidates - RPC/TGC dig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81C-547D-4A25-AC4A-5031F75E655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2FCDC-1597-4AF6-BC61-918AAA79FD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Pp</a:t>
            </a:r>
            <a:r>
              <a:rPr b="0" i="1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J/</a:t>
            </a:r>
            <a:r>
              <a:rPr b="0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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(6)</a:t>
            </a:r>
            <a:r>
              <a:rPr b="0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(3)) dataset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=5nb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(44% events have only one muon reconstructed by MU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295280"/>
          <a:ext cx="6933960" cy="18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93396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143000" y="3886200"/>
          <a:ext cx="7010280" cy="22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886200"/>
                    <a:ext cx="701028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0948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bb</a:t>
            </a:r>
            <a:r>
              <a:rPr b="0" i="1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(6)X background dataset </a:t>
            </a:r>
            <a:r>
              <a:rPr b="1" i="1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=3600nb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(80% events have one muon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1F2-6EE5-472D-A7DF-09FE0E66B9D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2F15E-D49C-4519-B696-31218ED40F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0:57:08Z</dcterms:created>
  <dc:creator>name</dc:creator>
  <dc:description/>
  <dc:language>en-US</dc:language>
  <cp:lastModifiedBy>panikas</cp:lastModifiedBy>
  <dcterms:modified xsi:type="dcterms:W3CDTF">2003-11-05T10:08:59Z</dcterms:modified>
  <cp:revision>40</cp:revision>
  <dc:subject/>
  <dc:title>Low pt muon identification</dc:title>
</cp:coreProperties>
</file>