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9FA-88A1-47F0-BDA3-40E5E1CE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27DE-EE64-49C8-9791-105CBF2B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CD9-243D-4BE8-93D1-21B9A823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4AD-CC5C-4402-B693-1AA78DD1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7D5-31F0-4EA9-A6F4-255A4341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E54-2913-4598-8EC9-7D431332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FA3-A842-41D8-804B-CF3082A0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C15-AA5E-47C3-A7CC-84E4A71C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DB5-74F9-4E5C-B82B-AE867232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7A7-EAC1-4BEC-88DF-2E50679C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86A-E795-42B3-8910-CEBDE0F0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DB1-4421-4A84-8B4F-C9717F11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BBBE-758E-4252-8742-AB097FEDC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/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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construction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ORE and MU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7.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alia Panikashv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visor :Shlomit Ta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chnion, Israel Institute o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8195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(6) mu(3)) was simulated with initial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ore reconstruction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fficiency of tracks reconstruction in the Muon System vs. pt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00200" y="3962520"/>
          <a:ext cx="571500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962520"/>
                    <a:ext cx="571500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523880" y="1295280"/>
          <a:ext cx="5715000" cy="255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295280"/>
                    <a:ext cx="571500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323480" y="33526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58672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id Stand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-fit the Muon Spectrometer (Moore) tracks extrapolated to the vertex, taking into account the multiple scattering and energy loss in the calori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uid Stand Alone efficiency vs. pt and 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2043000"/>
          <a:ext cx="678204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43000"/>
                    <a:ext cx="678204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066680" y="4273560"/>
          <a:ext cx="6858000" cy="18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273560"/>
                    <a:ext cx="685800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780680" y="350532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48720" y="571500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idCom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gorithm  tries all the combinations with the inner detector track , and, in the case of success, makes a global f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ated 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of muons that were successfully re-fitted by MUIDStandAlone algorith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3300"/>
                </a:solidFill>
                <a:latin typeface="Arial"/>
              </a:rPr>
              <a:t>Generated p</a:t>
            </a:r>
            <a:r>
              <a:rPr b="0" i="1" lang="en-US" sz="1600" spc="-1" strike="noStrike" baseline="-25000">
                <a:solidFill>
                  <a:srgbClr val="ff3300"/>
                </a:solidFill>
                <a:latin typeface="Arial"/>
              </a:rPr>
              <a:t>T</a:t>
            </a:r>
            <a:r>
              <a:rPr b="0" i="1" lang="en-US" sz="1600" spc="-1" strike="noStrike">
                <a:solidFill>
                  <a:srgbClr val="ff3300"/>
                </a:solidFill>
                <a:latin typeface="Arial"/>
              </a:rPr>
              <a:t> of muons that were successfully re-fitted by MUIDStandAlone and successfully combined by MUIDCo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ff00"/>
                </a:solidFill>
                <a:latin typeface="Arial"/>
              </a:rPr>
              <a:t>Generated p</a:t>
            </a:r>
            <a:r>
              <a:rPr b="0" i="1" lang="en-US" sz="1600" spc="-1" strike="noStrike" baseline="-25000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1600" spc="-1" strike="noStrike">
                <a:solidFill>
                  <a:srgbClr val="00ff00"/>
                </a:solidFill>
                <a:latin typeface="Arial"/>
              </a:rPr>
              <a:t> of muons that were successfully re-fitted but MuidComb failed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47920" y="3379680"/>
          <a:ext cx="6095880" cy="27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379680"/>
                    <a:ext cx="609588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idCom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gorith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fficiency of successfu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id combi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successful refitting (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id StandAlo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vs.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3880" y="2054160"/>
          <a:ext cx="6172200" cy="17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4160"/>
                    <a:ext cx="61722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676520" y="4229280"/>
          <a:ext cx="609588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229280"/>
                    <a:ext cx="609588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7704720" y="327672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96080" y="5410080"/>
            <a:ext cx="2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idCom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gorithm combines not only successfully refitted track but gives the chance for tracks that failed refitting by MUIDStandal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ated 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of all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UIDComb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muons.</a:t>
            </a:r>
            <a:r>
              <a:rPr b="0" i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3300"/>
                </a:solidFill>
                <a:latin typeface="Arial"/>
              </a:rPr>
              <a:t>Generated p</a:t>
            </a:r>
            <a:r>
              <a:rPr b="0" i="1" lang="en-US" sz="1600" spc="-1" strike="noStrike" baseline="-25000">
                <a:solidFill>
                  <a:srgbClr val="ff3300"/>
                </a:solidFill>
                <a:latin typeface="Arial"/>
              </a:rPr>
              <a:t>T</a:t>
            </a:r>
            <a:r>
              <a:rPr b="0" i="1" lang="en-US" sz="1600" spc="-1" strike="noStrike">
                <a:solidFill>
                  <a:srgbClr val="ff3300"/>
                </a:solidFill>
                <a:latin typeface="Arial"/>
              </a:rPr>
              <a:t> of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MUIDComb</a:t>
            </a:r>
            <a:r>
              <a:rPr b="0" i="1" lang="en-US" sz="1600" spc="-1" strike="noStrike">
                <a:solidFill>
                  <a:srgbClr val="ff3300"/>
                </a:solidFill>
                <a:latin typeface="Arial"/>
              </a:rPr>
              <a:t> muons that were refitted by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MUIDStandAlone</a:t>
            </a:r>
            <a:r>
              <a:rPr b="0" i="1" lang="en-US" sz="1600" spc="-1" strike="noStrike">
                <a:solidFill>
                  <a:srgbClr val="ff3300"/>
                </a:solidFill>
                <a:latin typeface="Arial"/>
              </a:rPr>
              <a:t> algorithm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ff00"/>
                </a:solidFill>
                <a:latin typeface="Arial"/>
              </a:rPr>
              <a:t>Generated p</a:t>
            </a:r>
            <a:r>
              <a:rPr b="0" i="1" lang="en-US" sz="1600" spc="-1" strike="noStrike" baseline="-25000">
                <a:solidFill>
                  <a:srgbClr val="00ff00"/>
                </a:solidFill>
                <a:latin typeface="Arial"/>
              </a:rPr>
              <a:t>T</a:t>
            </a:r>
            <a:r>
              <a:rPr b="0" i="1" lang="en-US" sz="1600" spc="-1" strike="noStrike">
                <a:solidFill>
                  <a:srgbClr val="00ff00"/>
                </a:solidFill>
                <a:latin typeface="Arial"/>
              </a:rPr>
              <a:t> of </a:t>
            </a: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MUIDComb </a:t>
            </a:r>
            <a:r>
              <a:rPr b="0" i="1" lang="en-US" sz="1600" spc="-1" strike="noStrike">
                <a:solidFill>
                  <a:srgbClr val="00ff00"/>
                </a:solidFill>
                <a:latin typeface="Arial"/>
              </a:rPr>
              <a:t>muons that failed  re-fit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30520" y="3165480"/>
          <a:ext cx="6346800" cy="28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0520" y="3165480"/>
                    <a:ext cx="6346800" cy="28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variant mass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866960" y="3903840"/>
          <a:ext cx="537192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3903840"/>
                    <a:ext cx="53719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828800" y="1371600"/>
          <a:ext cx="5334120" cy="241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371600"/>
                    <a:ext cx="533412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514600" y="1600200"/>
            <a:ext cx="6858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14800"/>
            <a:ext cx="838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965240"/>
            <a:ext cx="1447560" cy="55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=3.098±0.0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gma =0.05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4495680"/>
            <a:ext cx="1447920" cy="55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=3.097±0.0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gma =0.05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0:33:12Z</dcterms:created>
  <dc:creator>panikas</dc:creator>
  <dc:description/>
  <dc:language>en-US</dc:language>
  <cp:lastModifiedBy>panikas</cp:lastModifiedBy>
  <dcterms:modified xsi:type="dcterms:W3CDTF">2003-10-14T08:21:03Z</dcterms:modified>
  <cp:revision>59</cp:revision>
  <dc:subject/>
  <dc:title>J/psi reconstruction with MOORE and MUID</dc:title>
</cp:coreProperties>
</file>